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13CFC-3183-4B38-B89B-503DE7808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0520" y="151920"/>
            <a:ext cx="7170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280" y="4267080"/>
            <a:ext cx="8839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A9DDF-6360-480D-AEF8-7B276DA98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0520" y="151920"/>
            <a:ext cx="7170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280" y="4267080"/>
            <a:ext cx="43135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800" y="4267080"/>
            <a:ext cx="43135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93A9A-A22F-4BB0-8CC2-E675BF595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0520" y="151920"/>
            <a:ext cx="7170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28461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41000" y="1600200"/>
            <a:ext cx="28461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30080" y="1600200"/>
            <a:ext cx="28461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280" y="4267080"/>
            <a:ext cx="28461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41000" y="4267080"/>
            <a:ext cx="28461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30080" y="4267080"/>
            <a:ext cx="28461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A2F61-4F7B-4610-AD6E-5E5D4D8AA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49211-4D60-4ACC-90F6-671D85F09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820520" y="151920"/>
            <a:ext cx="7170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52280" y="1600200"/>
            <a:ext cx="88394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DAAF8-9667-45B6-AFE0-095DFCC9D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820520" y="151920"/>
            <a:ext cx="7170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EA54A-7198-4087-B874-FB317ABF8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820520" y="151920"/>
            <a:ext cx="7170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AAAAA-7B29-4D0A-BE08-4785B954F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820520" y="151920"/>
            <a:ext cx="7170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B0E80-2152-48F3-873D-A1F3E072C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820520" y="151920"/>
            <a:ext cx="7170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B0A3A-6B1A-408A-B5F8-A30E9CB48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820520" y="151920"/>
            <a:ext cx="7170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52280" y="4267080"/>
            <a:ext cx="43135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F2DE3-7DE2-4D8C-A41C-90B80B0C8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0520" y="151920"/>
            <a:ext cx="7170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280" y="1600200"/>
            <a:ext cx="88394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576A5-C066-453C-A358-217BB85AD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820520" y="151920"/>
            <a:ext cx="7170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1800" y="4267080"/>
            <a:ext cx="43135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F2D25-5569-4165-94E7-8CF9514AF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820520" y="151920"/>
            <a:ext cx="7170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280" y="4267080"/>
            <a:ext cx="8839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4AC79-B3E3-4188-B919-C46088559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820520" y="151920"/>
            <a:ext cx="7170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52280" y="4267080"/>
            <a:ext cx="8839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055C6-1790-4DC6-84A8-8F85A9ECE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820520" y="151920"/>
            <a:ext cx="7170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52280" y="4267080"/>
            <a:ext cx="43135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1800" y="4267080"/>
            <a:ext cx="43135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226B5-44FD-48FC-B231-E6E52A3FF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820520" y="151920"/>
            <a:ext cx="7170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28461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41000" y="1600200"/>
            <a:ext cx="28461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30080" y="1600200"/>
            <a:ext cx="28461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52280" y="4267080"/>
            <a:ext cx="28461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41000" y="4267080"/>
            <a:ext cx="28461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30080" y="4267080"/>
            <a:ext cx="28461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60A5C-C0BC-443F-9405-87021A199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0520" y="151920"/>
            <a:ext cx="7170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9DF0A-EC41-4F18-B296-33781F82E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0520" y="151920"/>
            <a:ext cx="7170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C1534-6C3F-40CC-9512-919EA4708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0520" y="151920"/>
            <a:ext cx="7170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C7878-5216-47B1-8ECE-B57B7A220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0520" y="151920"/>
            <a:ext cx="7170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5816B-AFD1-4612-A359-00DF1D19B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0520" y="151920"/>
            <a:ext cx="7170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280" y="4267080"/>
            <a:ext cx="43135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8BF1C-9319-4D1F-84E2-AA05CA66B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0520" y="151920"/>
            <a:ext cx="7170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800" y="4267080"/>
            <a:ext cx="43135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C4FB8-F41B-4C62-95CE-3EE8FE748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0520" y="151920"/>
            <a:ext cx="7170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280" y="4267080"/>
            <a:ext cx="8839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07F38-AB38-4FE6-9BC7-4F96441BD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0520" y="151920"/>
            <a:ext cx="7170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80" y="1600200"/>
            <a:ext cx="88394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1b6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d1b6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d1b6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d1b6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d1b6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5D207-4AC7-49BE-9A45-C628F782A379}" type="slidenum"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1760" y="4876920"/>
            <a:ext cx="7543800" cy="9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F5BDA-C6E7-40A7-AEDE-E082AA08C7B1}" type="slidenum"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d1b681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d1b681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d1b681"/>
              </a:buClr>
              <a:buSzPct val="7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61760" y="4876920"/>
            <a:ext cx="7543800" cy="9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066680" y="5866920"/>
            <a:ext cx="6934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820520" y="151920"/>
            <a:ext cx="7170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8T07:21:30Z</dcterms:created>
  <dc:creator>jeanne butcher</dc:creator>
  <dc:description/>
  <cp:keywords/>
  <dc:language>en-US</dc:language>
  <cp:lastModifiedBy>jeanne butcher</cp:lastModifiedBy>
  <dcterms:modified xsi:type="dcterms:W3CDTF">2007-07-15T20:40:38Z</dcterms:modified>
  <cp:revision>2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408331033</vt:lpwstr>
  </property>
</Properties>
</file>